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D38-39B8-402C-9A25-06932AE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EDD-92A7-4017-AEBC-B88B512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1F1-77AB-46E8-A576-4F134D4F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9BF-7A55-4545-B26A-B1EB0185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3ED-98EE-4797-B557-F425F4F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44D-E03C-4606-A6B5-618D3F2C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465-20D1-4D34-8B58-718A2D0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96C-C868-4061-8284-964A236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809-908E-4865-B788-63CA9345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7FD-59B8-49EC-A601-C3CF57F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72A-F8FD-4562-B2E0-A9A9908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CF8-56D3-491C-997C-760BD35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81D-A41B-484A-8B30-7E7BE993A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KT7xJ0tjB4A&amp;NR=1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d-hEkyYUXSo&amp;feature=related" TargetMode="External"/><Relationship Id="rId2" Type="http://schemas.openxmlformats.org/officeDocument/2006/relationships/hyperlink" Target="http://ca.youtube.com/watch?v=x4WEqWlp29U&amp;feature=related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Mechanic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700280"/>
            <a:ext cx="82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KT7xJ0tjB4A&amp;N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Mechanics in His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qzZDlXji0e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Numbers and the 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5MMWpeJ5d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” Orbitals Shapes a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814400"/>
            <a:ext cx="7286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62040" y="219240"/>
            <a:ext cx="601992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Number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400040"/>
            <a:ext cx="7943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end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700280"/>
            <a:ext cx="82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ment of the Periodic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AkoepZtvaX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Radi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d-hEkyYUXSo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zation Ener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.youtube.com/watch?v=x4WEqWlp29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Affin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a.youtube.com/watch?v=dU5-AvyEgl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36:31Z</dcterms:created>
  <dc:creator>FradkiL</dc:creator>
  <dc:description/>
  <dc:language>en-US</dc:language>
  <cp:lastModifiedBy>FradkiL</cp:lastModifiedBy>
  <dcterms:modified xsi:type="dcterms:W3CDTF">2009-02-09T20:51:06Z</dcterms:modified>
  <cp:revision>5</cp:revision>
  <dc:subject/>
  <dc:title>Slide 1</dc:title>
</cp:coreProperties>
</file>